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31A-6329-415F-A64F-C6E9C0E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88E-06C4-4A40-82C1-7BB2FEE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501-B9C8-4C3D-ADC1-810EDA5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D28-D3CC-4EC0-A86F-B341C695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54A-DE68-48AB-B4F2-7DAE013D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98E-9B76-4865-B3A9-5720D315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200-0F68-4EA4-B448-0D721DAB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AA0-5C33-40E7-BA36-8D82DBE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257-4308-44BA-9B2F-A2EC61CC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C6B-D033-4E3D-B2CA-EB08D6DD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1E0-F1C7-4C1D-8DD3-5EA6D83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D63-EA7C-44E7-B399-BFD8FA9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C6AB-28AF-420F-88FA-9CF4FFA0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D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92D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92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D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D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D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D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step1: uncompress the “rtl8192d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tl8192DU_linux_v3.0.1397.20110305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step2: make 8192D USB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step4: insert 8192D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mod 8192d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step1: enable wlan0(or wlan1)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config wlan0 up (ifconfig wlan1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Libra_lin</cp:lastModifiedBy>
  <dcterms:modified xsi:type="dcterms:W3CDTF">2011-03-05T02:54:42Z</dcterms:modified>
  <cp:revision>125</cp:revision>
  <dc:subject/>
  <dc:title>投影片 1</dc:title>
</cp:coreProperties>
</file>